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409-E566-4D49-8CA7-ADD2AADD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3772-603A-48C8-B40D-57935894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766-EC69-40D7-8B34-5E0C0416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5C4-A3F8-4EE5-A875-98FE460B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8FFD-3602-4BC6-9547-8E98751F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EA92-285E-4456-9043-F30AD5A5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9F8-575D-4728-B7DB-937D1C23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3A3-F340-4058-BC42-F478A9FF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8BD9-78AC-4D78-87D1-1C5BA4AC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86D-34A8-4FE2-B7B8-1D76B56A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C65-809D-48AD-B185-262CA93E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734-BB6A-4AB5-B822-1C5C16A3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76AE-B177-4D75-A48C-CDBDCB4CC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280" y="1123560"/>
            <a:ext cx="8396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3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Едно чудесно място знам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ърцето ми копней за там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лушам гласа на Бога мой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в училището съботно!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0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8760" y="2041560"/>
            <a:ext cx="8469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Там запознах се с Бога мой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и Той приема ме за Свой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Аз вяра черпя и покой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в училището съботно!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1640" y="1857240"/>
            <a:ext cx="8103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Ела и ти, послушай с нас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лова от милия Исус!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одкрепяй се от Словото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в училището съботно!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6:00:52Z</dcterms:created>
  <dc:creator>TrifonTrifonow</dc:creator>
  <dc:description/>
  <dc:language>en-US</dc:language>
  <cp:lastModifiedBy>TrifonTrifonow</cp:lastModifiedBy>
  <dcterms:modified xsi:type="dcterms:W3CDTF">2005-11-21T12:31:52Z</dcterms:modified>
  <cp:revision>6</cp:revision>
  <dc:subject/>
  <dc:title>Slide 1</dc:title>
</cp:coreProperties>
</file>